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9F66-C6FA-47AC-8F02-0F9964FFA1E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C633-B3D2-4EA0-833E-0445E98ADF1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6806-490F-47EF-9EED-E4CBEEB148D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66D9-25BF-40E0-A655-D840E3D6FDE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63F4-F0B2-4832-9C98-77D659CF516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F06B-D575-403B-A471-890B750F216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8CA7-47FE-47EB-AFF1-D7609174C92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2565-2588-43F7-938E-2AC6270CBE7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E977-AD5F-41D2-81B9-6FD65DAE76C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4A02-E1C6-4B78-8711-C144FB37C55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D99E-268A-427D-A252-26014805EDE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0D53-BAE5-45BC-9408-0A6A706BF16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EE8B-395C-4EFE-8A95-86C7020F532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27D6-E78D-466C-B97B-A3D6787E578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C31B-144B-437F-8356-EE355CC2EDF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96D5-C1B6-4347-AFFE-B3DFC176752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5F18-C857-4B3E-B817-AC3C12E3A18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34DD-E5F9-472A-A604-6319DE3D972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2998-CC28-4E49-B27A-F1294E140AD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AD7-4B56-444D-B033-B259BB95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69C-B909-4140-804A-B0B15AC6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F08-2854-4393-8F91-EA0A2175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2C2-930C-42D5-AAA0-9BE34C10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C4F4-B22D-4E51-9CC0-81C4E7F0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4C48-6430-4588-B69E-56AA648D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3E17-2E7C-44F2-A3D7-30CF2DE2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DC45-9FBA-48B0-9230-F7C7C27C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7571-C96A-4420-8067-400E54C7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2F22-7002-44BE-8D32-512EAF97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003D-F456-40A3-9A36-A31C2BB7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EF6-45C3-421E-89F0-954AEF7F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E626-9077-4130-BDFA-91BC9F28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1601-BE5F-4A31-8F2C-05F27CD3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923F-59E7-47AB-A211-B6556E66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BE4B-698F-4574-A77E-2D53DF16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BB1C-A9A3-43DA-8091-5FFF192F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219DF-5294-42D2-A0FB-73A904F6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5D9E4-0B97-4B8D-B8FB-D8C83ABF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6D31B-F4EA-4D40-8B90-6157FC00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608B7-3E1A-4C3C-9B7C-35330F4C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1C970-6363-48C7-B886-9018017A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7B5-7EF8-4EEB-8081-F353A769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BFD7-DF45-49F1-B6E6-54F8E220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1B69-E27A-4EFC-AB40-988BF58E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D255-7879-4339-AAF2-703296F8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F6BD1-4849-429D-9ED0-6CA0D3D6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8200-237C-4EF8-9AF0-B49C3EF9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0E54F-127B-4C46-9129-CBD49014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F3F06-EA46-48E3-8809-2EBF3211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A4C8F-1B8C-49BE-83F6-592D13F2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3383B-0089-4EDB-88CC-5E9B142C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6E826-BB94-42F0-9804-1C31C08F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BFB-3167-4C44-AE39-F4612431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16E0F-967D-49AC-B0EB-DB517793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5F8E4-52AD-48FB-82B9-220A0B8D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5B33E-1372-4561-B2BF-D99EDE41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2DED1-5A36-4C85-BE65-5E37B61D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93EF-DF1C-4C7A-909F-FDC3D226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A7FE-DA49-4109-A664-82AB8FB6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FA70B-00D3-4570-BF60-749D2D6F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E0494-A7EA-4424-96DB-BC480786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035D8-22C3-4D81-A2EB-1339FADB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DD89F-F97C-42B3-B283-F1DDF010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C62-B8E4-4E97-A531-BEA18950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4064D-16A5-4E67-88F5-C47E34E8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5BB9B-BE7E-4631-8C8E-F93934C2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668C0-B014-4B97-BCAB-D986C1F7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18ACA-1AE4-4DDF-B875-3404D527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8838D-F04B-4EA2-9DE4-A1EA1C0F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495E6-7157-4800-A790-1D9EACEE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67F04-5FC5-48DD-9280-DEF8EC47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D4FB2-4B5A-4EA9-B43C-F403B542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E4CAF-AD09-4692-8A18-CDED9CD8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A2E7D-0E18-4905-A9F4-597FC76A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DEB-D19D-4416-9A6B-B710BE3A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B609D-5103-4861-9D16-76BB6F3F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1668C-DA4E-4AD9-A4E6-ADB1F9E5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F85E9-E33B-4BF8-9BF2-4BC4318F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78650-2E89-462A-A8C9-E0854AFA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97786-B73E-4001-B517-9FE2E360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DB278-5072-4BB9-90AA-C7B59CC9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AA797-AD73-4549-9436-851CCD74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5AE80-BDC4-4F40-9D16-12C124D5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50C25-DC32-4238-9EAC-FEAF8150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79DEE-7F30-4155-A8C4-A33C14BC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63A-2D9C-4B77-B5CD-3C5048C3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3B493-3953-4BA6-8B61-588A1CB9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6CC04-1E7B-4354-A015-BB9E8266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CDB13-AEDF-492D-9389-05D9AE0A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3CFCE-9D30-4217-AE88-C11A0D90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BC850-72A3-4F08-B1C6-06B66172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BC2B4-8FE4-4CE7-8909-D6E13F74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27B42-8BAC-4BF7-A9DB-0546C6CB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B54A0-C056-41BE-AE38-1BC8C668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D7729-7657-4B74-B4E2-6CEAED38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1AF8C-0F9B-4397-A0F6-E889108F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97F-24B8-4271-8C9E-5E1100F9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1F435-FA18-40BA-B12A-203E1D10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589CE-CA75-42A4-8CF8-F37E0707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C83D1-6C22-46E6-846C-CF3534EE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D40AF-FB49-4514-9B94-6D6BF148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D16A1-AB13-4F42-A94D-DAAB03CA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944-D288-4DAA-9E26-570E4AFC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E271-E8C1-41C9-AA64-0E13F8822197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2E20-69F6-4A15-8787-20FA70B86BBD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84E3-C7AC-4F0F-B525-B0B99775138E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CBB3-F651-490A-9E26-DB3B25487F1C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9149-AE94-4673-B87C-32A206BA64CF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9B43-7403-4E9D-9384-D402D8542701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8E85-0836-4109-9761-E184DD21143E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boris</cp:lastModifiedBy>
  <dcterms:modified xsi:type="dcterms:W3CDTF">2012-09-21T12:41:16Z</dcterms:modified>
  <cp:revision>91</cp:revision>
  <dc:subject/>
  <dc:title>Finansijski menadžment</dc:title>
</cp:coreProperties>
</file>